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0AB-7D3C-4993-8F8B-B984C2D7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228-7CE6-4158-83D9-639FB697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37D-6AEB-499C-B57D-07CF2BF7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FE8-C8C8-4D9C-820E-B1ED649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33F-BF0D-40AA-9C6B-AF12AF5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A4F-00EE-4016-8165-5EB40EFF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242-6746-4669-A90B-092C3F2E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112-270E-4D4F-ACE0-03462246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7EC-85FE-44C6-971E-262B5911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668-0152-451B-8DAA-4AA8751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6F4-348A-470A-AF2C-A163BD6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442-8173-4A12-AE64-CF44A8F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EB6E-8372-432B-A141-ACE7CC346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1.bp.blogspot.com/-aSwrNMX6Yl8/UMjPaB1OAJI/AAAAAAAADXI/Coe3z4bNYAY/s1600/&#1096;&#1072;&#1073;&#1083;&#1086;&#1085;+&#1079;&#1080;&#1084;&#1085;&#1103;&#1103;+&#1085;&#1086;&#1095;&#1100;+&#1074;+&#1076;&#1077;&#1088;&#1077;&#1074;&#1085;&#1077;.png" TargetMode="External"/><Relationship Id="rId2" Type="http://schemas.openxmlformats.org/officeDocument/2006/relationships/hyperlink" Target="http://shgpi.edu.ru/biblioteka/forum/img/besedka/0_8027c_eeea0651_XL.png" TargetMode="External"/><Relationship Id="rId3" Type="http://schemas.openxmlformats.org/officeDocument/2006/relationships/hyperlink" Target="http://creativenn.blogspot.com/2012/02/blog-post_883.html" TargetMode="External"/><Relationship Id="rId4" Type="http://schemas.openxmlformats.org/officeDocument/2006/relationships/hyperlink" Target="http://www.1366x768.ru/nature/296/icicle-wallpaper-1366x768.jpg" TargetMode="External"/><Relationship Id="rId5" Type="http://schemas.openxmlformats.org/officeDocument/2006/relationships/hyperlink" Target="http://widefon.com/_ld/149/05458856.jpg" TargetMode="External"/><Relationship Id="rId6" Type="http://schemas.openxmlformats.org/officeDocument/2006/relationships/hyperlink" Target="http://kray.ck.ua/media/k2/items/cache/726b22d9c17e9bdaa99a3b78d525321c_XL.jpg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cd5b5"/>
              </a:solidFill>
              <a:latin typeface="Arial"/>
              <a:ea typeface="宋体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682560" y="-244440"/>
            <a:ext cx="7851960" cy="5114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018200" y="5734080"/>
            <a:ext cx="185760" cy="30780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92040" y="2954160"/>
            <a:ext cx="3095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1520" y="-1778040"/>
            <a:ext cx="6707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74"/>
          <p:cNvSpPr/>
          <p:nvPr/>
        </p:nvSpPr>
        <p:spPr>
          <a:xfrm>
            <a:off x="755640" y="836640"/>
            <a:ext cx="5688000" cy="2521080"/>
          </a:xfrm>
          <a:prstGeom prst="roundRect">
            <a:avLst>
              <a:gd name="adj" fmla="val 16667"/>
            </a:avLst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ружилась звездо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духе немнож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а и раста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моей ладо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527280" cy="30718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11" name="Text Box 12"/>
          <p:cNvSpPr/>
          <p:nvPr/>
        </p:nvSpPr>
        <p:spPr>
          <a:xfrm>
            <a:off x="2081520" y="4653000"/>
            <a:ext cx="209016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17571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ак мы рады, что пришла 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долгожданная зима.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Хоть и щиплет нас мороз,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Мы не прячем щёки, нос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842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68360" y="119700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.bp.blogspot.com/-aSwrNMX6Yl8/UMjPaB1OAJI/AAAAAAAADXI/Coe3z4bNYAY/s1600/%D1%88%D0%B0%D0%B1%D0%BB%D0%BE%D0%BD+%D0%B7%D0%B8%D0%BC%D0%BD%D1%8F%D1%8F+%D0%BD%D0%BE%D1%87%D1%8C+%D0%B2+%D0%B4%D0%B5%D1%80%D0%B5%D0%B2%D0%BD%D0%B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овик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hgpi.edu.ru/biblioteka/forum/img/besedka/0_8027c_eeea0651_X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а год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reativenn.blogspot.com/2012/02/blog-post_88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ульк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1366x768.ru/nature/296/icicle-wallpaper-1366x76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стопад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idefon.com/_ld/149/0545885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оз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kray.ck.ua/media/k2/items/cache/726b22d9c17e9bdaa99a3b78d525321c_X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 http://img.mota.ru/upload/wallpapers/2013/06/18/09/03/36276/vSf5Ba7iTJ-1152x8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оза http://marioncountymessenger.com/wp-content/uploads/2011/04/thunderstorm-icon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ей http://regards-photographie.com/img/bg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ждик http://www.cliparthut.com/clip-arts/1076/cartoon-rain-cloud-clip-art-107699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д http://atlasprirodirossii.ru/wp-content/uploads/2015/05/Grad-podarok-prirodyi-ili-nebesnoe-proklyati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ёд http://www.gas-gen.ru/support/articles/0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 https://lh6.googleusercontent.com/-HRa-jFXmHrA/VKA2nzw7HuI/AAAAAAABkLI/bIp7vHsIHuw/%D0%97%D0%98%D0%9C%D0%90%2B%2B%D0%A1%D0%9D%D0%95%D0%93%2B%2B%D0%A0%D0%95%D0%9A%D0%90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жинка http://westisib.ru/wp-content/uploads/2012/01/sneg-82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157140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Кто, угадай-ка,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седая хозяйка?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Тряхнула перинки- 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над миром пуши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024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042920" y="404640"/>
            <a:ext cx="727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картинку о зиме.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44360" y="3787920"/>
            <a:ext cx="1967040" cy="2781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4702320" y="3895560"/>
            <a:ext cx="1881000" cy="27100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6673680" y="1916280"/>
            <a:ext cx="2295720" cy="3270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6" name="Picture 12" descr=""/>
          <p:cNvPicPr/>
          <p:nvPr/>
        </p:nvPicPr>
        <p:blipFill>
          <a:blip r:embed="rId5"/>
          <a:stretch/>
        </p:blipFill>
        <p:spPr>
          <a:xfrm>
            <a:off x="2217600" y="1916280"/>
            <a:ext cx="2394000" cy="3262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1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826920" y="1200600"/>
            <a:ext cx="7361640" cy="106884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осульки, листопад, мороз, гроз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,  дождь, иней, град, лё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2303640" cy="19386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62" name="Picture 4" descr="9f86a1d36d2f"/>
          <p:cNvPicPr/>
          <p:nvPr/>
        </p:nvPicPr>
        <p:blipFill>
          <a:blip r:embed="rId3"/>
          <a:stretch/>
        </p:blipFill>
        <p:spPr>
          <a:xfrm>
            <a:off x="395280" y="2492280"/>
            <a:ext cx="2374920" cy="178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63" name="Text Box 19"/>
          <p:cNvSpPr/>
          <p:nvPr/>
        </p:nvSpPr>
        <p:spPr>
          <a:xfrm>
            <a:off x="692640" y="3860640"/>
            <a:ext cx="18313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у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419640" y="2492280"/>
            <a:ext cx="2449440" cy="17892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1332000" y="4653000"/>
            <a:ext cx="2448000" cy="1957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66" name="Text Box 23"/>
          <p:cNvSpPr/>
          <p:nvPr/>
        </p:nvSpPr>
        <p:spPr>
          <a:xfrm>
            <a:off x="3444480" y="5568840"/>
            <a:ext cx="10296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4"/>
          <p:cNvSpPr txBox="1"/>
          <p:nvPr/>
        </p:nvSpPr>
        <p:spPr>
          <a:xfrm>
            <a:off x="755640" y="260280"/>
            <a:ext cx="77770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признаки зимы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2880000" cy="1800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69" name="Picture 28" descr=""/>
          <p:cNvPicPr/>
          <p:nvPr/>
        </p:nvPicPr>
        <p:blipFill>
          <a:blip r:embed="rId7"/>
          <a:stretch/>
        </p:blipFill>
        <p:spPr>
          <a:xfrm>
            <a:off x="1403280" y="4653000"/>
            <a:ext cx="2305080" cy="205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8"/>
          <a:stretch/>
        </p:blipFill>
        <p:spPr>
          <a:xfrm>
            <a:off x="4768920" y="4751280"/>
            <a:ext cx="3000240" cy="1935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71" name="Picture 21" descr="vSf5Ba7iTJ-1152x864"/>
          <p:cNvPicPr/>
          <p:nvPr/>
        </p:nvPicPr>
        <p:blipFill>
          <a:blip r:embed="rId9"/>
          <a:stretch/>
        </p:blipFill>
        <p:spPr>
          <a:xfrm>
            <a:off x="6372360" y="2492280"/>
            <a:ext cx="2447640" cy="1836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72" name="Picture 26" descr=""/>
          <p:cNvPicPr/>
          <p:nvPr/>
        </p:nvPicPr>
        <p:blipFill>
          <a:blip r:embed="rId10"/>
          <a:stretch/>
        </p:blipFill>
        <p:spPr>
          <a:xfrm>
            <a:off x="6300720" y="234936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7170840" y="4005360"/>
            <a:ext cx="9396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932640" y="3933720"/>
            <a:ext cx="12690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7161480" y="5367240"/>
            <a:ext cx="8298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79" name="WordArt 8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йди лишнее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1757520" cy="29260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1943280" cy="15541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5764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4932360" y="3573360"/>
            <a:ext cx="2411280" cy="28926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87" name="WordArt 5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йди лишнее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88" name="Picture 4" descr="9f86a1d36d2f"/>
          <p:cNvPicPr/>
          <p:nvPr/>
        </p:nvPicPr>
        <p:blipFill>
          <a:blip r:embed="rId2"/>
          <a:stretch/>
        </p:blipFill>
        <p:spPr>
          <a:xfrm>
            <a:off x="1258920" y="1700280"/>
            <a:ext cx="2374920" cy="178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2449440" cy="17892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303640" cy="20066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116000" y="4076640"/>
            <a:ext cx="2671920" cy="2003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95" name="Скругленный прямоугольник 74"/>
          <p:cNvSpPr/>
          <p:nvPr/>
        </p:nvSpPr>
        <p:spPr>
          <a:xfrm>
            <a:off x="826920" y="1125360"/>
            <a:ext cx="6697800" cy="2737080"/>
          </a:xfrm>
          <a:prstGeom prst="roundRect">
            <a:avLst>
              <a:gd name="adj" fmla="val 16667"/>
            </a:avLst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Calibri"/>
                <a:ea typeface="Calibri"/>
              </a:rPr>
              <a:t>Белые мухи на землю се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71640" cy="2925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2946960" y="4508640"/>
            <a:ext cx="104652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Отгадай загадку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1757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жок порхает,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ружится на улице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бело и превратились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лужицы в прозрачное стекло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Н. Некрас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rcRect l="25587" t="43701" r="18500" b="14299"/>
          <a:stretch/>
        </p:blipFill>
        <p:spPr>
          <a:xfrm>
            <a:off x="2124000" y="3860640"/>
            <a:ext cx="511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г кружится, снег ложится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г, снег, снег.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Рады снегу зверь и птица и,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онечно, человек.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. Михал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7476" t="20604" r="5902" b="5900"/>
          <a:stretch/>
        </p:blipFill>
        <p:spPr>
          <a:xfrm>
            <a:off x="1547640" y="3284640"/>
            <a:ext cx="626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3:17:42Z</dcterms:created>
  <dc:creator>Кузнецова </dc:creator>
  <dc:description/>
  <dc:language>en-US</dc:language>
  <cp:lastModifiedBy>Казанцев Дмитрий Вадимович</cp:lastModifiedBy>
  <dcterms:modified xsi:type="dcterms:W3CDTF">2021-10-05T03:34:54Z</dcterms:modified>
  <cp:revision>53</cp:revision>
  <dc:subject>Путешествие со снеговичком</dc:subject>
  <dc:title>Внеклассное занятие</dc:title>
</cp:coreProperties>
</file>